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8.wmf" ContentType="image/x-wmf"/>
  <Override PartName="/ppt/media/image3.jpeg" ContentType="image/jpeg"/>
  <Override PartName="/ppt/media/image37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45.png" ContentType="image/png"/>
  <Override PartName="/ppt/media/image46.jpeg" ContentType="image/jpeg"/>
  <Override PartName="/ppt/media/image49.png" ContentType="image/png"/>
  <Override PartName="/ppt/media/image51.png" ContentType="image/png"/>
  <Override PartName="/ppt/media/image50.png" ContentType="image/png"/>
  <Override PartName="/ppt/media/image38.jpeg" ContentType="image/jpeg"/>
  <Override PartName="/ppt/media/image30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52.jpeg" ContentType="image/jpeg"/>
  <Override PartName="/ppt/media/image31.jpeg" ContentType="image/jpeg"/>
  <Override PartName="/ppt/media/image11.jpeg" ContentType="image/jpeg"/>
  <Override PartName="/ppt/media/image48.png" ContentType="image/png"/>
  <Override PartName="/ppt/media/image9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39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C3E0-3E18-455E-A073-B1B184E2B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E4BC-20B8-4C18-8511-419A4202B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fences or teaching how to swim?  Unless we get in the water with them, we will not be a presence in their world.  We need to teach them how to behave in a virtual and a real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xamples from each of u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 – IM, Text msg. and 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s – Blog and Flick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y – Webcam and You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37E8-C443-45ED-8D67-956D90B9E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04F5-FD48-46A3-9E0E-D5337492C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B30E-AAB3-4CA9-AEA2-0A324DD34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8AEC-396D-4D5C-8A16-12725C099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9D12-FB08-495F-BCB2-63679B182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8 or 9 might be a nice place to put the Batman (utility belt) and terminator (integrated) pics. 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B7A2-631D-46DA-ACB0-6A3D00F9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8E0E-DB73-4A81-BA37-B89BCEE4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E1FA-8F07-43AC-9BC9-45CF80EF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088B-71DF-45ED-AD6B-90F88577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187C-022C-4640-906F-9D5D030D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40C1-AA7F-459A-97E5-7DEDF7BF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1F9D-FDE7-4D01-8FC7-3EBCDF61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A5BB-52CA-4B38-8EA5-E8F0564B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3339-3B3A-4749-875A-0999C08D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A5FD-0E23-4C60-8CF9-6D1DD883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0946-929E-4EB4-A776-9AE9B5D7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C878-A64E-461E-8E61-CA968B5C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FC2B-393C-4960-8A8F-B44472E0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C08A-2AD9-4AFB-8E54-C849FF5F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3C66-0790-46BE-ACB2-A700373C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50C8-236F-476B-BD39-32BBED2A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DCD1-80DC-4222-A6D8-7D00A669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117-6692-4E69-A0CB-BF7D47C1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F6F-B5AD-49E1-9B5F-818DD5D1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0117-545D-4B69-8E55-5E561C0C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F444-FA0E-492B-A367-259238A8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723E-A9BC-408B-B277-0F5DBD87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8E57-0F5B-483C-B304-F6BAD1E5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C18-8184-47B9-83D7-C3867C78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6B08-6898-419F-8EB2-04549303119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FCB7-7786-495E-9FEA-DC9713702E0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image" Target="../media/image40.jpeg"/><Relationship Id="rId14" Type="http://schemas.openxmlformats.org/officeDocument/2006/relationships/image" Target="../media/image41.jpe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45.png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36.jpe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www.cybercomm.nl/%7Eivo/photo_GEORGE.html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pn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Parenting the “Net Generation”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hat makes our kids “click”?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0" name="Picture 19" descr="C:\Documents and Settings\dsands\Local Settings\Temporary Internet Files\Content.IE5\MH2PM2HO\MP900439416[1].jpg"/>
          <p:cNvPicPr/>
          <p:nvPr/>
        </p:nvPicPr>
        <p:blipFill>
          <a:blip r:embed="rId1"/>
          <a:stretch/>
        </p:blipFill>
        <p:spPr>
          <a:xfrm>
            <a:off x="1258920" y="2492280"/>
            <a:ext cx="3646440" cy="3646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5796000" y="4221000"/>
            <a:ext cx="309708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Coquitlam River P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February 27,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are thei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Impact"/>
              </a:rPr>
              <a:t>nee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though the world has changed dramatically, our kids 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“needs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ain the sam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30" descr="http://www.dbtechno.com/images/teen_girls_phone.jpg"/>
          <p:cNvPicPr/>
          <p:nvPr/>
        </p:nvPicPr>
        <p:blipFill>
          <a:blip r:embed="rId1"/>
          <a:stretch/>
        </p:blipFill>
        <p:spPr>
          <a:xfrm>
            <a:off x="4714920" y="2643120"/>
            <a:ext cx="3514680" cy="3503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C:\Users\dsands\AppData\Local\Microsoft\Windows\Temporary Internet Files\Content.IE5\SKS20IM7\MC910215885[1].jpg"/>
          <p:cNvPicPr/>
          <p:nvPr/>
        </p:nvPicPr>
        <p:blipFill>
          <a:blip r:embed="rId2"/>
          <a:stretch/>
        </p:blipFill>
        <p:spPr>
          <a:xfrm>
            <a:off x="755640" y="3141720"/>
            <a:ext cx="368316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y do they go online/use technology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needs does it meet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e of Belon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ing he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MPj04312170000[1]"/>
          <p:cNvPicPr/>
          <p:nvPr/>
        </p:nvPicPr>
        <p:blipFill>
          <a:blip r:embed="rId1"/>
          <a:stretch/>
        </p:blipFill>
        <p:spPr>
          <a:xfrm>
            <a:off x="5364000" y="2133720"/>
            <a:ext cx="302436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Impact"/>
              </a:rPr>
              <a:t>The Places They Go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37" name="Picture 8" descr="MCj03126460000[1]"/>
          <p:cNvPicPr/>
          <p:nvPr/>
        </p:nvPicPr>
        <p:blipFill>
          <a:blip r:embed="rId1"/>
          <a:stretch/>
        </p:blipFill>
        <p:spPr>
          <a:xfrm>
            <a:off x="3708360" y="2457360"/>
            <a:ext cx="2071800" cy="2111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www.seattlebeerweek.com/images/twitter_logo.png"/>
          <p:cNvPicPr/>
          <p:nvPr/>
        </p:nvPicPr>
        <p:blipFill>
          <a:blip r:embed="rId2"/>
          <a:stretch/>
        </p:blipFill>
        <p:spPr>
          <a:xfrm rot="20639400">
            <a:off x="4995360" y="4138560"/>
            <a:ext cx="2882880" cy="1065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http://www.retirement-jobs-online.com/images/ebay-logo.jpg"/>
          <p:cNvPicPr/>
          <p:nvPr/>
        </p:nvPicPr>
        <p:blipFill>
          <a:blip r:embed="rId3"/>
          <a:stretch/>
        </p:blipFill>
        <p:spPr>
          <a:xfrm rot="20276400">
            <a:off x="963360" y="5402160"/>
            <a:ext cx="1274760" cy="1208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http://www.mspmentor.net/wp-content/uploads/2009/02/mspmentor-and-the-var-guy-podcasts-on-itunes.jpg"/>
          <p:cNvPicPr/>
          <p:nvPr/>
        </p:nvPicPr>
        <p:blipFill>
          <a:blip r:embed="rId4"/>
          <a:stretch/>
        </p:blipFill>
        <p:spPr>
          <a:xfrm>
            <a:off x="2938320" y="3841920"/>
            <a:ext cx="1192320" cy="1207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images3.jpg"/>
          <p:cNvPicPr/>
          <p:nvPr/>
        </p:nvPicPr>
        <p:blipFill>
          <a:blip r:embed="rId5"/>
          <a:stretch/>
        </p:blipFill>
        <p:spPr>
          <a:xfrm>
            <a:off x="1562040" y="3013200"/>
            <a:ext cx="1727280" cy="1001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imagesCAKTRLBD.jpg"/>
          <p:cNvPicPr/>
          <p:nvPr/>
        </p:nvPicPr>
        <p:blipFill>
          <a:blip r:embed="rId6"/>
          <a:stretch/>
        </p:blipFill>
        <p:spPr>
          <a:xfrm>
            <a:off x="3405240" y="5049720"/>
            <a:ext cx="1700280" cy="1535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9" descr="imagesCAOEUU8Y.jpg"/>
          <p:cNvPicPr/>
          <p:nvPr/>
        </p:nvPicPr>
        <p:blipFill>
          <a:blip r:embed="rId7"/>
          <a:stretch/>
        </p:blipFill>
        <p:spPr>
          <a:xfrm>
            <a:off x="4619520" y="1031760"/>
            <a:ext cx="2040120" cy="1224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" descr="imagesCA7FS46N.jpg"/>
          <p:cNvPicPr/>
          <p:nvPr/>
        </p:nvPicPr>
        <p:blipFill>
          <a:blip r:embed="rId8"/>
          <a:stretch/>
        </p:blipFill>
        <p:spPr>
          <a:xfrm rot="1389000">
            <a:off x="7631280" y="4836600"/>
            <a:ext cx="1215720" cy="1216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images.jpg"/>
          <p:cNvPicPr/>
          <p:nvPr/>
        </p:nvPicPr>
        <p:blipFill>
          <a:blip r:embed="rId9"/>
          <a:stretch/>
        </p:blipFill>
        <p:spPr>
          <a:xfrm rot="954000">
            <a:off x="6621120" y="1565280"/>
            <a:ext cx="2340000" cy="88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2" descr="imagesCAN03YNH.jpg"/>
          <p:cNvPicPr/>
          <p:nvPr/>
        </p:nvPicPr>
        <p:blipFill>
          <a:blip r:embed="rId10"/>
          <a:stretch/>
        </p:blipFill>
        <p:spPr>
          <a:xfrm>
            <a:off x="5435640" y="5445000"/>
            <a:ext cx="2004840" cy="1122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3" descr="imagesCAV824PJ.jpg"/>
          <p:cNvPicPr/>
          <p:nvPr/>
        </p:nvPicPr>
        <p:blipFill>
          <a:blip r:embed="rId11"/>
          <a:stretch/>
        </p:blipFill>
        <p:spPr>
          <a:xfrm>
            <a:off x="468360" y="2205000"/>
            <a:ext cx="2879640" cy="795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4" descr="imagesCAOF6IPG.jpg"/>
          <p:cNvPicPr/>
          <p:nvPr/>
        </p:nvPicPr>
        <p:blipFill>
          <a:blip r:embed="rId12"/>
          <a:stretch/>
        </p:blipFill>
        <p:spPr>
          <a:xfrm>
            <a:off x="7694640" y="2865600"/>
            <a:ext cx="1297080" cy="1296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imagesCA71CM7J.jpg"/>
          <p:cNvPicPr/>
          <p:nvPr/>
        </p:nvPicPr>
        <p:blipFill>
          <a:blip r:embed="rId13"/>
          <a:stretch/>
        </p:blipFill>
        <p:spPr>
          <a:xfrm>
            <a:off x="6012000" y="275112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7" descr="imagesCAW4N5TV.jpg"/>
          <p:cNvPicPr/>
          <p:nvPr/>
        </p:nvPicPr>
        <p:blipFill>
          <a:blip r:embed="rId14"/>
          <a:stretch/>
        </p:blipFill>
        <p:spPr>
          <a:xfrm>
            <a:off x="177840" y="4005360"/>
            <a:ext cx="2247840" cy="1495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15"/>
          <a:stretch/>
        </p:blipFill>
        <p:spPr>
          <a:xfrm>
            <a:off x="7186680" y="146160"/>
            <a:ext cx="1566720" cy="1172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16"/>
          <a:stretch/>
        </p:blipFill>
        <p:spPr>
          <a:xfrm>
            <a:off x="468360" y="87480"/>
            <a:ext cx="1611360" cy="1290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17"/>
          <a:stretch/>
        </p:blipFill>
        <p:spPr>
          <a:xfrm>
            <a:off x="2351160" y="733320"/>
            <a:ext cx="1542960" cy="1543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5" descr="untitlewd.bmp"/>
          <p:cNvPicPr/>
          <p:nvPr/>
        </p:nvPicPr>
        <p:blipFill>
          <a:blip r:embed="rId18"/>
          <a:stretch/>
        </p:blipFill>
        <p:spPr>
          <a:xfrm rot="20406000">
            <a:off x="649440" y="1028520"/>
            <a:ext cx="1904760" cy="95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Bright"/>
              </a:rPr>
              <a:t>THE CHALLENGES THEY FACE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900000" y="155736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problems (Obes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ty Th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5003640" y="3141720"/>
            <a:ext cx="324360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hat “WE” want for our children…with technology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57120" y="192888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afet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664d"/>
                </a:solidFill>
                <a:latin typeface="Arial"/>
              </a:rPr>
              <a:t>Balanc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Healthy 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screen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gital Literac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Digital Respons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Positiv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Social Networking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1835280" y="59500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t how do we get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5205240" y="3774960"/>
            <a:ext cx="2927520" cy="19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628560" y="907920"/>
            <a:ext cx="8045640" cy="5774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99960" y="1089000"/>
            <a:ext cx="850104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8200" indent="-351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expec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activ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he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onversa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generate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ow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pt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Tube videos, case-based scenarios, teachable mo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a response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“plan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vailable to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“support not punish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rve your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relation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attachment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79200" y="3330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are </a:t>
            </a:r>
            <a:r>
              <a:rPr b="0" lang="en-US" sz="3600" spc="-1" strike="noStrike" u="sng">
                <a:solidFill>
                  <a:srgbClr val="0070c0"/>
                </a:solidFill>
                <a:uFillTx/>
                <a:latin typeface="Impact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going to do about it?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Impact"/>
              </a:rPr>
              <a:t>U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7164360" cy="4478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images.jpg"/>
          <p:cNvPicPr/>
          <p:nvPr/>
        </p:nvPicPr>
        <p:blipFill>
          <a:blip r:embed="rId2"/>
          <a:stretch/>
        </p:blipFill>
        <p:spPr>
          <a:xfrm>
            <a:off x="3203640" y="0"/>
            <a:ext cx="2736720" cy="1031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3"/>
          <a:stretch/>
        </p:blipFill>
        <p:spPr>
          <a:xfrm>
            <a:off x="3174840" y="2924280"/>
            <a:ext cx="5888160" cy="3681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4"/>
          <a:stretch/>
        </p:blipFill>
        <p:spPr>
          <a:xfrm>
            <a:off x="7020000" y="428760"/>
            <a:ext cx="1671480" cy="223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Impact"/>
              </a:rPr>
              <a:t>Be Involved and connect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onlin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act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 game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ch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ag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…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with THEM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4859280" y="2060640"/>
            <a:ext cx="378144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ntact information and Resourc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71600" y="1071360"/>
            <a:ext cx="77724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Sand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ands@sd43.bc.ca or dave.h.sands@gmail.co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connectandprotect.wikispaces.com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Google: Connect and Protect wik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only the beginning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Impact"/>
              </a:rPr>
              <a:t>Homework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4240" y="85680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 my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Wiki pa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look at 3 different articles/vide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 online and establish 3 new accounts on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web 2.0 tool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.g. Facebook, Club Penguin, MSN, Youtube, ePets, Twitter, WebKins, etc.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Ta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your child/ren about one or more of these too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3348000" y="3540240"/>
            <a:ext cx="331164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do we want for our ki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3" name="Diagram 3" descr=""/>
          <p:cNvPicPr/>
          <p:nvPr/>
        </p:nvPicPr>
        <p:blipFill>
          <a:blip r:embed="rId1"/>
          <a:stretch/>
        </p:blipFill>
        <p:spPr>
          <a:xfrm>
            <a:off x="712800" y="1274760"/>
            <a:ext cx="7772400" cy="5119560"/>
          </a:xfrm>
          <a:prstGeom prst="rect">
            <a:avLst/>
          </a:prstGeom>
          <a:ln w="0">
            <a:noFill/>
          </a:ln>
        </p:spPr>
      </p:pic>
      <p:pic>
        <p:nvPicPr>
          <p:cNvPr id="94" name="Rectangle 7" descr=""/>
          <p:cNvPicPr/>
          <p:nvPr/>
        </p:nvPicPr>
        <p:blipFill>
          <a:blip r:embed="rId2"/>
          <a:stretch/>
        </p:blipFill>
        <p:spPr>
          <a:xfrm>
            <a:off x="3780000" y="4522680"/>
            <a:ext cx="1645920" cy="123840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8" descr=""/>
          <p:cNvPicPr/>
          <p:nvPr/>
        </p:nvPicPr>
        <p:blipFill>
          <a:blip r:embed="rId3"/>
          <a:stretch/>
        </p:blipFill>
        <p:spPr>
          <a:xfrm>
            <a:off x="1189080" y="4943520"/>
            <a:ext cx="1493640" cy="115236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9" descr=""/>
          <p:cNvPicPr/>
          <p:nvPr/>
        </p:nvPicPr>
        <p:blipFill>
          <a:blip r:embed="rId4"/>
          <a:stretch/>
        </p:blipFill>
        <p:spPr>
          <a:xfrm>
            <a:off x="6010200" y="4224240"/>
            <a:ext cx="228600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2560" y="837720"/>
            <a:ext cx="7772400" cy="5257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w Theory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haly Csikszentmihaly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"/>
          <p:cNvSpPr/>
          <p:nvPr/>
        </p:nvSpPr>
        <p:spPr>
          <a:xfrm>
            <a:off x="1981080" y="48769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 flipV="1">
            <a:off x="1981080" y="1447560"/>
            <a:ext cx="7632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743200" y="51814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733920" y="5181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 rot="5400000">
            <a:off x="74520" y="34275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 flipV="1">
            <a:off x="1981080" y="251460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9"/>
          <p:cNvSpPr/>
          <p:nvPr/>
        </p:nvSpPr>
        <p:spPr>
          <a:xfrm>
            <a:off x="2057400" y="243828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0"/>
          <p:cNvSpPr/>
          <p:nvPr/>
        </p:nvSpPr>
        <p:spPr>
          <a:xfrm flipV="1">
            <a:off x="3124080" y="1600200"/>
            <a:ext cx="251460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"/>
          <p:cNvSpPr/>
          <p:nvPr/>
        </p:nvSpPr>
        <p:spPr>
          <a:xfrm flipH="1" flipV="1">
            <a:off x="3733560" y="1523880"/>
            <a:ext cx="1447560" cy="335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2133720" y="4038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2057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22096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3886200" y="1447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181480" y="2133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52578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5029200" y="3962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3581280" y="4191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 Questions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920" y="836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of you have a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personal profi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ine? (Facebook? MySpace? Twitter? Other?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here engages in 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I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Text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Chatting Onl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of you have an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iPod/iPhone? Smart Phone? Tablet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play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deo game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920" y="18900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questions we will address tonight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81327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oes it matter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computers are </a:t>
            </a:r>
            <a:r>
              <a:rPr b="1" lang="en-US" sz="2800" spc="-1" strike="noStrike" u="sng">
                <a:solidFill>
                  <a:srgbClr val="00664d"/>
                </a:solidFill>
                <a:uFillTx/>
                <a:latin typeface="Arial"/>
              </a:rPr>
              <a:t>located</a:t>
            </a:r>
            <a:r>
              <a:rPr b="1" lang="en-US" sz="28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your  hom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place </a:t>
            </a:r>
            <a:r>
              <a:rPr b="1" lang="en-US" sz="2800" spc="-1" strike="noStrike" u="sng">
                <a:solidFill>
                  <a:srgbClr val="00664d"/>
                </a:solidFill>
                <a:uFillTx/>
                <a:latin typeface="Arial"/>
              </a:rPr>
              <a:t>limits</a:t>
            </a:r>
            <a:r>
              <a:rPr b="1" lang="en-US" sz="28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your Children’s computer us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have a </a:t>
            </a:r>
            <a:r>
              <a:rPr b="1" lang="en-US" sz="2800" spc="-1" strike="noStrike" u="sng">
                <a:solidFill>
                  <a:srgbClr val="00664d"/>
                </a:solidFill>
                <a:uFillTx/>
                <a:latin typeface="Arial"/>
              </a:rPr>
              <a:t>convers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th your child about Internet Safety and/or Cyber-bullying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create and adopt </a:t>
            </a:r>
            <a:r>
              <a:rPr b="1" lang="en-US" sz="2800" spc="-1" strike="noStrike" u="sng">
                <a:solidFill>
                  <a:srgbClr val="00664d"/>
                </a:solidFill>
                <a:uFillTx/>
                <a:latin typeface="Arial"/>
              </a:rPr>
              <a:t>family expectation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children around computer us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Learning Intention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785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gain a better understanding of our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hildr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ir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nee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xamine our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hildren’s 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echnolog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ncrease our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warenes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potential dangers and challenges around technology u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ovide you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support and resourc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better understand these iss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ncourage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practical, proactive strateg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 your children around healthy technology u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3" descr="The Bridge"/>
          <p:cNvPicPr/>
          <p:nvPr/>
        </p:nvPicPr>
        <p:blipFill>
          <a:blip r:embed="rId1"/>
          <a:stretch/>
        </p:blipFill>
        <p:spPr>
          <a:xfrm>
            <a:off x="2998800" y="3398760"/>
            <a:ext cx="3019320" cy="22287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56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emember Wh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80760" y="64404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 was a lot simpler when we were kid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57520" y="836280"/>
            <a:ext cx="37861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ight??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Fred Flintstone"/>
          <p:cNvPicPr/>
          <p:nvPr/>
        </p:nvPicPr>
        <p:blipFill>
          <a:blip r:embed="rId2"/>
          <a:stretch/>
        </p:blipFill>
        <p:spPr>
          <a:xfrm rot="21033600">
            <a:off x="498600" y="3892680"/>
            <a:ext cx="1238040" cy="2381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photo_GEOR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22400" y="4592520"/>
            <a:ext cx="1629000" cy="1276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jeannie001"/>
          <p:cNvPicPr/>
          <p:nvPr/>
        </p:nvPicPr>
        <p:blipFill>
          <a:blip r:embed="rId5"/>
          <a:stretch/>
        </p:blipFill>
        <p:spPr>
          <a:xfrm rot="20797800">
            <a:off x="4751280" y="1593360"/>
            <a:ext cx="1428840" cy="2266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elvis-portrait3sm"/>
          <p:cNvPicPr/>
          <p:nvPr/>
        </p:nvPicPr>
        <p:blipFill>
          <a:blip r:embed="rId6"/>
          <a:stretch/>
        </p:blipFill>
        <p:spPr>
          <a:xfrm>
            <a:off x="7572240" y="2643120"/>
            <a:ext cx="1133640" cy="151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Woodstock Festival Remembered"/>
          <p:cNvPicPr/>
          <p:nvPr/>
        </p:nvPicPr>
        <p:blipFill>
          <a:blip r:embed="rId7"/>
          <a:stretch/>
        </p:blipFill>
        <p:spPr>
          <a:xfrm rot="604200">
            <a:off x="6484680" y="3841920"/>
            <a:ext cx="1714320" cy="2095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Happy days.jpg"/>
          <p:cNvPicPr/>
          <p:nvPr/>
        </p:nvPicPr>
        <p:blipFill>
          <a:blip r:embed="rId8"/>
          <a:stretch/>
        </p:blipFill>
        <p:spPr>
          <a:xfrm>
            <a:off x="2655720" y="2057400"/>
            <a:ext cx="1667160" cy="1171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gilligans-island-season-2.jpg"/>
          <p:cNvPicPr/>
          <p:nvPr/>
        </p:nvPicPr>
        <p:blipFill>
          <a:blip r:embed="rId9"/>
          <a:stretch/>
        </p:blipFill>
        <p:spPr>
          <a:xfrm rot="529200">
            <a:off x="7454880" y="514440"/>
            <a:ext cx="1558800" cy="1817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Rubics cube.jpg"/>
          <p:cNvPicPr/>
          <p:nvPr/>
        </p:nvPicPr>
        <p:blipFill>
          <a:blip r:embed="rId10"/>
          <a:stretch/>
        </p:blipFill>
        <p:spPr>
          <a:xfrm>
            <a:off x="6429240" y="1928880"/>
            <a:ext cx="1047960" cy="1114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Atari_2600.png"/>
          <p:cNvPicPr/>
          <p:nvPr/>
        </p:nvPicPr>
        <p:blipFill>
          <a:blip r:embed="rId11"/>
          <a:stretch/>
        </p:blipFill>
        <p:spPr>
          <a:xfrm>
            <a:off x="122400" y="555480"/>
            <a:ext cx="1774800" cy="1781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" descr=""/>
          <p:cNvPicPr/>
          <p:nvPr/>
        </p:nvPicPr>
        <p:blipFill>
          <a:blip r:embed="rId12"/>
          <a:stretch/>
        </p:blipFill>
        <p:spPr>
          <a:xfrm>
            <a:off x="635040" y="2147760"/>
            <a:ext cx="2114640" cy="2162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13"/>
          <a:stretch/>
        </p:blipFill>
        <p:spPr>
          <a:xfrm>
            <a:off x="3854520" y="4889520"/>
            <a:ext cx="1616040" cy="161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World has chang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Friedm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The World is Fla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http://www.collegerecruiter.com/mt-static/plugins/ImageUp/uploaded/59449012046058the-world-is-flat-thomas-friedman-book.jpg"/>
          <p:cNvPicPr/>
          <p:nvPr/>
        </p:nvPicPr>
        <p:blipFill>
          <a:blip r:embed="rId1"/>
          <a:stretch/>
        </p:blipFill>
        <p:spPr>
          <a:xfrm>
            <a:off x="3357720" y="2143080"/>
            <a:ext cx="2684160" cy="40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Impact"/>
              </a:rPr>
              <a:t>For our childr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761760"/>
            <a:ext cx="471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have never not known the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is fr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 is seaml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are wireless, yet always connec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FEATUREbeingbatman3"/>
          <p:cNvPicPr/>
          <p:nvPr/>
        </p:nvPicPr>
        <p:blipFill>
          <a:blip r:embed="rId1"/>
          <a:stretch/>
        </p:blipFill>
        <p:spPr>
          <a:xfrm>
            <a:off x="5651640" y="1197000"/>
            <a:ext cx="3152520" cy="2367000"/>
          </a:xfrm>
          <a:prstGeom prst="rect">
            <a:avLst/>
          </a:prstGeom>
          <a:ln w="0">
            <a:noFill/>
          </a:ln>
        </p:spPr>
      </p:pic>
      <p:pic>
        <p:nvPicPr>
          <p:cNvPr id="124" name="Content Placeholder 5" descr="itouch.jpg"/>
          <p:cNvPicPr/>
          <p:nvPr/>
        </p:nvPicPr>
        <p:blipFill>
          <a:blip r:embed="rId2"/>
          <a:stretch/>
        </p:blipFill>
        <p:spPr>
          <a:xfrm>
            <a:off x="6084720" y="4149720"/>
            <a:ext cx="2195640" cy="16239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"/>
          <p:cNvSpPr/>
          <p:nvPr/>
        </p:nvSpPr>
        <p:spPr>
          <a:xfrm>
            <a:off x="6156360" y="59403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482436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are Terminators  - fully integrated be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gle” has always been a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messaging is their e-m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have rarely mailed anything using a sta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2374920" cy="3417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4873680" y="4224240"/>
            <a:ext cx="2038320" cy="224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23:17:24Z</dcterms:created>
  <dc:creator>gkern</dc:creator>
  <dc:description/>
  <dc:language>en-US</dc:language>
  <cp:lastModifiedBy>Sands, Dave</cp:lastModifiedBy>
  <dcterms:modified xsi:type="dcterms:W3CDTF">2013-02-27T20:01:56Z</dcterms:modified>
  <cp:revision>97</cp:revision>
  <dc:subject/>
  <dc:title>Technology, kids and you</dc:title>
</cp:coreProperties>
</file>